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6A36-5732-4F13-AA40-491021E09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D4E9-BADB-4611-9D7A-43A753197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1951-A276-4F41-B898-C3246141C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C3B3-0F7A-4ABC-BEE9-93C891C3D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92E5-C628-4B09-A5A3-90E7D5EAF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FB5F-41B7-4858-B9EB-311102BC8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F62C-605D-4F8B-93BD-A9287755F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B9FD-177D-4A8C-AE24-29786F9B1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22E7-BA55-4184-B3D6-97BA0BC95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09B1-E1FC-43F4-9183-84342276E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D57D-6778-47F6-8DC7-266B5DE52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591F-5A28-4D48-9072-F50006158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F57F-BBA5-4F76-AA9A-D3519D578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98E2-DF63-46E2-92C8-6432534F4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3A80-D708-4C98-8A71-47FEE3D89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0394-650E-4511-9ABF-CE934972C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36E7-2E29-419E-9D92-0AB6A5AFC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B643-2C01-485B-AB7E-615BB24B8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E2CD-FEE5-48E3-AD75-486ED58F6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89BF-F3E2-498F-BAC4-47E09E3E7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E313-2ABC-453F-AF00-F13F8632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EE4B-5960-439C-B6FB-1A768310A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ABCD-505C-456D-BA80-2DD395705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E7AC-78CB-4040-B2F0-433CED3D0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F938-B0D6-45CC-9D98-BCC42783C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AE13-874E-4D13-BC3E-2D694B64D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8464-15C3-46F7-83BB-611FDFB2C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C27C-C60E-4BE9-B493-719051E66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2536-00F3-490D-A1BC-2476CDCB7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CE2E-1B1E-48CC-87AB-BE143C040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B6BF-A266-4D87-A5C2-0EF9FE4C4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B4CA-65B7-4808-969C-BEB9494E8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1F4F-9A2C-42F6-A606-CF8E00E01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4640-5761-449F-AF3B-351C996BC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F1EE-83BE-4F26-995A-5AF53293E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4906-C155-47C6-87E6-FFCAEE77F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8EC-0CD1-4419-AD11-DE154243A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B4DF-D6AE-4BBD-843D-FD101B79F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A1D9-B387-4D99-AEF4-57D43F82C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5DD0-1139-4D0A-A891-19B8F436F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5F2D-2F80-4DD1-BEAC-01F07C65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68AF-F44D-425B-8E5B-10A64DA15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A157-666C-4B0B-962D-1578BEA33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1CB4-590D-4993-BFF4-D1260974F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48D9-3B1D-4DED-9A6B-2BDB941D1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D58F-4043-4526-AC39-D2CF61D36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E07B-9A4C-45F6-9845-538289858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9CE3-70AF-4646-87B7-59C0ECCCC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A65B-35FF-4C99-9945-C723F98EC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2143-99A1-4558-9D52-6C5F43C84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EC31-46B5-4D41-B495-1D419A09C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6F57-22BA-409B-80DB-9D1A3917A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237-508C-4156-9F97-3B1FEE88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842-3856-4AD6-9F56-D9021D4C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ABA-721D-4916-8DD4-B6E60141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C61-5354-45C9-8D5A-625722E3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30A-03CE-45C5-A9A0-EDC9C778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E4F-F74F-4167-98CE-E12834A7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F0C-ADBD-49DB-843E-4AE922C3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69F-B20B-4654-8B56-7326FFC2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C0E-844B-44CB-B21B-09037D5B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588-FD44-49C3-BABA-2DA119B3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A2D-B80D-434B-BB28-78407DB4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9CF-F2C5-444D-88C9-CCE8F0B8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3555-1CD4-4795-9A1B-E8117A36D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2193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p V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nk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anatopsis”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nowboun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ide”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o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utilus”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ronsid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iver Wendell Hol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term he na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iver Wendell Hol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nesthe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2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Rip lived with at the end of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his dau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the peels of th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nine-pin (bowl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ces friends are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died in war -or- Con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ington Ir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ving’s most famous piece of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the picture at the hotel/i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King George to George Wash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“Snow-Bound: A Winter Idyl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young narrator compares the tunnel to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“Snow-Bound: A Winter Idyl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laddin’s c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atopsi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tle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atopsi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eeing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“Snow-Bound: A Winter Idyl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“foreign” objects from outside after the s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“Snow-Bound: A Winter Idyl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“Chinese roof” and “Pisa’s leaning mirac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“Snow-Bound: A Winter Idyl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idy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“Snow-Bound: A Winter Idyl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nostalgic work describing a pleasant rural scene or homey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ington Ir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Legend of Sleepy H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atopsi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hings that decorate the t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atopsi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ills, vales, woods, rivers, brooks,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oss of Snow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Longfellow sees to make him start this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oss of Snow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is wife’s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de Rises, the Tide Fa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interpretations of what this poem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de Rises, the Tide Fa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ome things change and some things stay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r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 is erased - start new/move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de Rises, the Tide Fa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of the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de Rises, the Tide Fa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ands of a mother/child/G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oss of Snow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of the cross on his ch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oss of Snow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burden of his wife’s death - not being able to save 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Greenleaf Whitt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ouldn’t bring in food” - reference Whittier’s father is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de Rises, the Tide Fa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iambic 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de Rises, the Tide Fa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n unstressed syllable followed by a stressed syl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Ironsid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in writing this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Ironsind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 sav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SS Constit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being scra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mbered Nautilu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ended metaph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mbered Nautilu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comparing the growing of the nautilus to the growing of a human/development of the so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Ironsid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mes says this should happen instead of it being scra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Ironsid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it should sink - so it stays in one pie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mbered Nautilu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apostrop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mbered Nautliu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direct address to an object or someone who is no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Greenleaf Whitt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form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mbered Nautilu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human dwellings noted in stanza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mbered Nautilu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cell, tenant, and cry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liam Cullen Bry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tle Bryant held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of _________ _________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liam Cullen Bry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“Father of American Poetr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nry Wadsworth Longfe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fellow was the first American to have a marble image in the Poets’ Corner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nry Wadsworth Longfe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Westminister Abb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ACSD</cp:lastModifiedBy>
  <dcterms:modified xsi:type="dcterms:W3CDTF">2009-10-13T18:05:27Z</dcterms:modified>
  <cp:revision>50</cp:revision>
  <dc:subject/>
  <dc:title>No Slide Title</dc:title>
</cp:coreProperties>
</file>